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1B08-37D4-4597-9B4A-989D45E9F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EE6F-033E-4356-8B99-D77D8430D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712399-DF73-470E-988D-79607D34D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E8E9CF-ABA8-4071-86F1-C5CFFBB2E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6D54A9-1954-46D9-AD00-FA96B17F3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C4CC11-0EC5-4605-BFDA-BB1D7EAD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4E2B96-8046-4A3F-9B75-04E9D6B9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5C7A69-FF6B-45A0-8B37-07D8C36F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22F88C-F4F2-4D35-987F-912597AA8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EBDF8F-95ED-4BFC-B8FA-C042CA678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9D6893-BD00-4A4F-A6B5-9B5B620F2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D0F12A-8F8F-4BBE-B1CA-D4270525F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E170-C262-4D86-A457-86176F6F8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FB8B3F-06E3-4384-AA27-EABB01508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8920FF-739C-4EB3-B38B-FB76C4985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B2E026-C190-4625-A715-122E1D8B8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48B502-630A-4CF9-8B2F-507935F5D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975ACB-9E06-43DC-B3A7-D59B3ED15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FE0AEC-D848-44A6-8781-C10C4017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E62611-14B9-497F-96E0-41F6546A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DA3899-204C-4677-9684-009114D9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1A806A-FB74-4BF5-81CF-F2894B1FD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BA1F8A-C9A2-4BC2-850D-1C893ED6D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55CB-752D-40D5-BD62-F4C245320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AA224B-A372-475F-A909-CA8D334B6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CC0FBE-7ECF-466E-9820-0E670B3E8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6EA772-0D4D-4494-AD48-474307320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2FAB73-353C-49C8-A798-37CE24192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B1F47F-4A6F-45C2-A1CC-AE5D3122C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FBB39D-9AAA-471E-9806-9FB20C366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7F544F-9F00-4548-9C75-C04DB60D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7E826F-2856-46DA-8121-A1115143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6D0E83-0EB8-4349-8B82-5447DB4D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166716-F59A-4856-81EB-4E605028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630D2-FBA6-48DB-BE1E-FD39E6F8B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5A5638-3041-4B58-B885-F014D55F2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4A2C86-6BBE-48F1-A0B8-F346D506D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82C0FB-4D96-4D0C-8FBB-7F4E30D28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A4DBCF-0E2D-482B-8F2C-D36F2E0F4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B01C26-CEED-4E6A-8125-2209FADD6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FC426A-3FB7-42D8-9F20-652AA0B30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7171A0-4AA3-42C8-B33B-67A67464D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4672EE-6C88-42D8-9F6A-4314A3433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EC355D-5EB7-4948-9953-139AF411A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B3AE0F-03C5-4A02-9D65-99ED985E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6A478-EAB1-413D-A3EB-99E7B1760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A1ACFC-57CF-4F84-A852-5C105F89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36DBE9-D7C0-420A-8BB0-027CC877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14EC11-887B-44E2-86B6-CFE79925F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AF3621-12E7-4B7B-97BC-B54E73C67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271FE4-0320-4E2F-A6A3-035A6F1E3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044E7-4158-4763-9625-8C560137B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0CF75-864C-407B-B074-31621EC06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A616A-1860-41F5-9DF3-FD0C2F269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72862-83EC-44F9-9C75-D70B6C505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5BEEC-E32C-4CA6-BA20-C6BA950E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8612-1904-4885-AD17-46A7E0F44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E0309-AF7A-4EA5-8D36-5DF48880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FA295-A54C-44E5-835E-B78A56CB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207AC-F3FC-4F59-A6DE-EB483AC26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C9789-5C0F-46D2-BCF1-6C99DA562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005BC-0F94-4E75-B0A5-3F1DFC969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9DD4D-F5E5-4F89-94B6-F05A4E47C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9FEE7-0B68-4831-A5FF-63483342F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AC0A3-A12A-42D9-A75D-BFBA8442F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08B32-2593-4358-9F46-65A63133A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AF1F4-2D42-4155-A8F8-31085BD5D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5FFD-7949-48EB-B216-7724582D3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39129-6FA4-407D-99E4-71687599C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85DA4-ABF4-46F7-AF65-6FB76168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B6E17-65A9-445E-9286-636775AF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6C59B-2A56-406E-A6A9-D0639986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F0630-7E6E-4030-AFD7-11106AA44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95F85-BB92-4E69-8E77-EBAC78068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4C70F-6760-4757-9EB9-8FDA8F1AC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31E35-AEAB-4076-955A-E703839EA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72B17-2183-4B6B-9AF7-32B418F49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881FD-6A95-4312-82A8-98A7B8A00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38DB-F204-4ABC-A6F6-4DC48B90D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DFCCD-014F-4ED8-83A5-5D6603B69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B4E60-128B-4375-B762-0E2E045B7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38C54-8BA7-49FC-91FB-5CDFB595C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EB76C-6AEF-4E38-B4BB-4B683E75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46BB3-0767-46A7-91DE-F10BEDA3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BC1C4-1376-4B50-8CF3-F587CE6E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B425D-B03A-4A0C-AB7E-588678A33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ACB1B-C088-495B-ACE1-3ABABA31F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6BC1F-CBAE-49EC-B5C6-CA1B79E42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971E7-3A0A-4E6C-9E07-F6A2EB3DF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51E9-0272-4D2D-8156-438EFD7FC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C049D-FA3F-4799-8B1B-8B9DCF256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5143D-7A87-4522-8439-F2A6313B3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1343C-01D0-4460-9DE0-7BDE44CBA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04C9C-1214-4D57-A1A1-3E9499B69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2F2F4-DCD4-4969-9EBA-120A70B67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65214-0DD9-4C7D-9084-134851C2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6839B-DBDC-4C85-973E-ACDCC9E3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31F4D-412D-49B7-8536-70F33A88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79B94-8A98-45A7-8977-9827D4F3E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CE74D-25C8-4598-971C-F765C1DEB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B726-AA3F-4213-BCB5-20C36A872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F5BF7-C31F-41BD-8E61-DA9D795F8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DD38E-CAB0-4146-A81D-01AB9BA06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552AE-7181-421B-B2A5-8745FF341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AF8E0-B580-4A53-B360-06A131160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E2C4F-BB17-4E4C-A423-8796BFC3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5684D-6875-41AF-BCDE-341136D61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949A8-34A3-49D5-892C-7BAD1CFEB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88BB2-1CF7-44D1-816C-DB4A1C97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0C798-B4EB-4DDB-B9E3-797D0755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63D7F-8E00-4D14-8D66-B8925498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242D-6C3F-471A-9F22-51516201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6B450-30BD-4A52-87A3-EF77B6CBF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29EA05-5C67-4E8E-B29C-EB5758C66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4BEAFE-5559-4FBF-9922-DDEA0ADDA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C8431-2287-4209-AD1F-32FAC4420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1F31F5-5B9F-4987-BBD5-9D48FA21B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0A1A3-65B0-4711-BC83-009A279EB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D74E09-BB2D-4967-A068-3B9F4841A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7FD16B-590C-4F12-9277-A3F1841D0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65746-9FF3-450E-B846-EAA713784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9E505B-3EDF-4914-A1DD-1F505B5B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073C-7207-442F-8975-47934D6E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6B498-8B2D-469F-B520-ED0B0D6D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2B3E44-DC16-4FEE-B9F9-2C00D768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FD479-A01A-49F4-A178-756E5DBC7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EFF5D-6D1B-411B-AC36-CE0B9EFA6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54361-62C5-462C-AEA7-C7934F615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B4D99C-01DC-482C-977B-CC043F381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25FEB6-0582-49BE-9DDB-19C3F50E0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DDCBFC-28FD-45D6-976B-8DE86B372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199300-B4FE-44B7-B17F-3870093FD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BF0072-568B-4CFF-9DC9-D6CEB15E1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4962-B7CB-43B2-B5AF-A26011E51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07B7D8-FB9E-4AF2-8F59-F434376E3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C516E4-9F9E-4766-891B-DEDF8E8E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704220-9608-401D-AEEC-4D10E5E5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F2C415-5E9D-4831-83DE-390E4AC7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5CF36D-2929-4949-9E57-DE03FCDE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B7B72B-BB0B-41C8-99F2-EE6278D1C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EEE027-C20D-4EB5-BA34-D8B52859E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C3F509-EBA0-474D-A5A5-F199D9848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5F2959-E075-4368-99AD-F28F144C7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F49176-7C0E-4E00-BF32-694512398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CC34B-DD23-4396-A3D0-9A30F4D69F40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E4FD6-91D0-44FC-95B0-C6B927A6D998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F892E-57A4-4374-AFED-1129FE9E98B0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792DA-BA9E-4441-92C7-9F492DECCE95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BBF1D-997D-4EA3-B1FA-EA91ECBD149A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B21F6-411F-4982-A150-E5B7FF964C2C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C4027-080F-4B15-B0A8-89FCE6EC9992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4C4BA-E90B-4FC9-B8B4-B7742FEF1BE4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C9825-F2E2-4B65-9791-2CA891179E88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92643-AC82-45A4-AD94-C6038FD6EC19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31B2C-67F1-4A7C-A441-8B847EAB5E83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0AE3E-4AB9-43BA-BC9F-CF13721039F7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3779640" y="4941720"/>
            <a:ext cx="457812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НЕЧИТАЙЛО И.Н., ПРОНЕР М.А. УЧИТЕЛЯ НАЧАЛЬНЫХ КЛАССОВ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1402920" y="2205000"/>
            <a:ext cx="7054920" cy="17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2060"/>
                </a:solidFill>
                <a:latin typeface="Georgia"/>
              </a:rPr>
              <a:t>Распродажи, скидки. </a:t>
            </a:r>
            <a:br>
              <a:rPr sz="4200"/>
            </a:br>
            <a:r>
              <a:rPr b="1" lang="ru-RU" sz="4200" spc="-1" strike="noStrike">
                <a:solidFill>
                  <a:srgbClr val="002060"/>
                </a:solidFill>
                <a:latin typeface="Georgia"/>
              </a:rPr>
              <a:t>Решение задач.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8" name="Рисунок 4" descr="скидки.jpg"/>
          <p:cNvPicPr/>
          <p:nvPr/>
        </p:nvPicPr>
        <p:blipFill>
          <a:blip r:embed="rId1"/>
          <a:stretch/>
        </p:blipFill>
        <p:spPr>
          <a:xfrm>
            <a:off x="539640" y="476280"/>
            <a:ext cx="309564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9" name=""/>
          <p:cNvGraphicFramePr/>
          <p:nvPr/>
        </p:nvGraphicFramePr>
        <p:xfrm>
          <a:off x="395280" y="549360"/>
          <a:ext cx="8353440" cy="5472000"/>
        </p:xfrm>
        <a:graphic>
          <a:graphicData uri="http://schemas.openxmlformats.org/drawingml/2006/table">
            <a:tbl>
              <a:tblPr/>
              <a:tblGrid>
                <a:gridCol w="1670040"/>
                <a:gridCol w="1671480"/>
                <a:gridCol w="1670400"/>
                <a:gridCol w="1670040"/>
                <a:gridCol w="1671480"/>
              </a:tblGrid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</a:tr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бычная ц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2 39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3 00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5 00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4 50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</a:tr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кидка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Без скид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</a:tr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кидка в руб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</a:tr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онечная ц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2-19T12:14:11Z</dcterms:created>
  <dc:creator>Дом</dc:creator>
  <dc:description/>
  <dc:language>en-US</dc:language>
  <cp:lastModifiedBy>User</cp:lastModifiedBy>
  <dcterms:modified xsi:type="dcterms:W3CDTF">2023-02-21T12:12:38Z</dcterms:modified>
  <cp:revision>19</cp:revision>
  <dc:subject/>
  <dc:title>Распродажи, скидки.  Решение задач.</dc:title>
</cp:coreProperties>
</file>